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3886-CEBF-47A3-AA4A-B7F0ED7D0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E0EBD-48A5-43E7-9FEC-4D7AC3DE4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AE10-86B1-4AAF-8B74-F2A57A54B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2CB4-0F6F-49EA-AA91-4F3585BF11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EA5E-A8A3-4F90-90D7-EDB8C47BFF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4431-0215-48A7-9C18-F7AE55905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6637-223A-423E-A349-336AFD4A9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9268E-ED19-4251-8652-F6434AB60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613F-4446-48ED-918C-116FA527E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EC496-2E40-4207-8B19-E81A9E350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36C74-F202-46CB-8FF3-617BF4540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2138-7245-49A4-805A-5CF2FEFD0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A902-D2A6-45B8-8738-0A221C28C3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8D59-8203-4C78-A487-57ACC8A167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Algebraic Th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F228-4912-4D98-9EE2-7062638947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D6B3-D97B-43B0-831D-C1F3505CC6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80880" y="6858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 Feedback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about a question you have from 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’m wondering about….”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I’m confused about….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would like to learn more about…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it on a sticky note, and attach it to your gly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9140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ore connections between key components of algebraic thinking and proportional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key components of algebraic thinking and proportional reasoning in the curriculum expectations for a specific course (participant to cho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examples of generalization and justification in studen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concrete models of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connections between patterning and genera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491D-3DE0-47C7-AE3F-7BB65A1E3D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7F60-982D-43AB-89F3-040534CFE6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onsider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he sticker dot graph of courses our group created on the first day showing what we have taught or will be teaching this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reat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‘course’ groups of 3 or 4 participants to look at components of algebraic thinking and proportional reasoning in the curriculum expec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7BA3-A6AE-4A73-93EE-E3B82C3C6E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ACC0-C9ED-482A-B260-9B450C8054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ing half of a sheet of chart paper, create a Venn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the Venn Diagram to illustrate similarities and differences between the key mathematical ideas related to Proportional Reasoning and Algebraic Thinking </a:t>
            </a:r>
            <a:r>
              <a:rPr b="1" i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in general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(not related to your specific cour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hink about: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formation from our plenary sessions and the Big Ideas in the CAMPPP Program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F3D9-4780-465E-99A4-5209BA5C57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9211-7850-438D-BCA2-0044B80704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change Venn Diagrams with a neighbouring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post-it note to provide feedback: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“We really like….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post-it note to provide feedback: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“We are wondering….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turn Venn Diagrams to original tabl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BB8A-1368-4A29-9D71-103FB9B68C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3D2B-8855-4155-B6BD-796E420A63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cus now on the course you chose to work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p out the expectations related to Proportional Reasoning and Algebraic Thinking on your Venn Diagram – look for similarities/dif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ost your Venn Diagram when your group is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Resources: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Hard copies of curriculum documents are available as well as on-line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D709-14C0-4A59-8A19-E09B12F320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69AF-C21C-4F2D-A7BF-AAF0D4B3D5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discuss examples of Algebraic Thinking in student samples from the “Cube Sticker Probl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1304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 to Generalization Strategies and Justification Framework from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13040" indent="-5335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ogether with another pair.  Share and compare your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7C26-0566-4DE8-A344-3606D8B28E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184C-0F08-462E-B361-4A02EBC121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876560" y="1523880"/>
            <a:ext cx="3505320" cy="1066680"/>
            <a:chOff x="4876560" y="1523880"/>
            <a:chExt cx="3505320" cy="1066680"/>
          </a:xfrm>
        </p:grpSpPr>
        <p:sp>
          <p:nvSpPr>
            <p:cNvPr id="81" name=""/>
            <p:cNvSpPr/>
            <p:nvPr/>
          </p:nvSpPr>
          <p:spPr>
            <a:xfrm>
              <a:off x="4952880" y="1523880"/>
              <a:ext cx="3429000" cy="838080"/>
            </a:xfrm>
            <a:prstGeom prst="cloudCallout">
              <a:avLst>
                <a:gd name="adj1" fmla="val -23379"/>
                <a:gd name="adj2" fmla="val 4299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876560" y="2286000"/>
              <a:ext cx="6094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10080" y="175248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Work with a 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B962-3828-4CA5-AF42-7BEA7F2C8F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D27C-85A4-4D38-BFA2-331F5B6847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371600"/>
            <a:ext cx="822960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 Viewing the Area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ly, work through the hando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Modeling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Quadratic 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Functions with Square Tiles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are your insights, ideas, and questions with yo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56B5-24B4-4F8E-9799-8C3036C9E2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35CF-A1A6-436E-9C9A-886C5CC13E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7086600" y="175248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6095520" y="1218960"/>
            <a:ext cx="838440" cy="109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09T17:31:10Z</dcterms:modified>
  <cp:revision>23</cp:revision>
  <dc:subject/>
  <dc:title>&lt;Title&gt;</dc:title>
</cp:coreProperties>
</file>